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19.png" ContentType="image/png"/>
  <Override PartName="/ppt/media/image16.pct" ContentType="image/x-pict"/>
  <Override PartName="/ppt/media/image33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5.png" ContentType="image/png"/>
  <Override PartName="/ppt/media/image2.pct" ContentType="image/x-pict"/>
  <Override PartName="/ppt/media/image31.png" ContentType="image/png"/>
  <Override PartName="/ppt/media/image1.png" ContentType="image/png"/>
  <Override PartName="/ppt/media/image24.png" ContentType="image/png"/>
  <Override PartName="/ppt/media/image14.pct" ContentType="image/x-pict"/>
  <Override PartName="/ppt/media/image17.png" ContentType="image/png"/>
  <Override PartName="/ppt/media/image15.pct" ContentType="image/x-pict"/>
  <Override PartName="/ppt/media/image18.png" ContentType="image/png"/>
  <Override PartName="/ppt/media/image20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58676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7381440"/>
            <a:ext cx="58676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380520" y="1168560"/>
            <a:ext cx="58676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8052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338724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380520" y="7381440"/>
            <a:ext cx="58676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58676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80520" y="7381440"/>
            <a:ext cx="58676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38052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38724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2364480" y="47876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348800" y="47876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380520" y="73814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2364480" y="73814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4348800" y="73814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38724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380520" y="4787640"/>
            <a:ext cx="586764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586764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380520" y="1168560"/>
            <a:ext cx="58676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052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38724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80520" y="7381440"/>
            <a:ext cx="58676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58676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80520" y="7381440"/>
            <a:ext cx="58676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8052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338724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364480" y="47876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48800" y="47876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73814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364480" y="73814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348800" y="73814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364480" y="47876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348800" y="47876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380520" y="73814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364480" y="73814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4348800" y="73814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380520" y="4787640"/>
            <a:ext cx="586764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586764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380520" y="1168560"/>
            <a:ext cx="58676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52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38724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380520" y="7381440"/>
            <a:ext cx="58676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58676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80520" y="7381440"/>
            <a:ext cx="58676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38052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338724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364480" y="47876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348800" y="47876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380520" y="73814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2364480" y="73814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4348800" y="73814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80520" y="4787640"/>
            <a:ext cx="586764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586764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80520" y="1168560"/>
            <a:ext cx="58676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8052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520" y="4787640"/>
            <a:ext cx="586764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38724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80520" y="7381440"/>
            <a:ext cx="58676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58676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80520" y="7381440"/>
            <a:ext cx="58676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8052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338724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2364480" y="47876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348800" y="47876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80520" y="73814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2364480" y="73814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4348800" y="73814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380520" y="4787640"/>
            <a:ext cx="586764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586764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586764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380520" y="1168560"/>
            <a:ext cx="58676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38052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338724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380520" y="7381440"/>
            <a:ext cx="58676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58676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80520" y="7381440"/>
            <a:ext cx="58676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38052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338724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2364480" y="47876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348800" y="47876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380520" y="73814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2364480" y="73814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4348800" y="73814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0520" y="1168560"/>
            <a:ext cx="58676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52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4787640"/>
            <a:ext cx="586764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38724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7381440"/>
            <a:ext cx="58676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58676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520" y="7381440"/>
            <a:ext cx="58676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338724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364480" y="47876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348800" y="47876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520" y="73814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2364480" y="73814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4348800" y="73814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80520" y="4787640"/>
            <a:ext cx="586764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586764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586764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80520" y="1168560"/>
            <a:ext cx="58676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8052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38724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80520" y="7381440"/>
            <a:ext cx="58676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58676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80520" y="7381440"/>
            <a:ext cx="58676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52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38724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364480" y="47876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348800" y="47876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380520" y="73814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2364480" y="73814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4348800" y="73814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80520" y="4787640"/>
            <a:ext cx="586764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586764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380520" y="1168560"/>
            <a:ext cx="58676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8052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38724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80520" y="7381440"/>
            <a:ext cx="58676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58676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0520" y="7381440"/>
            <a:ext cx="58676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8052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338724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2364480" y="47876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348800" y="47876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380520" y="73814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2364480" y="73814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4348800" y="73814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380520" y="4787640"/>
            <a:ext cx="586764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586764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380520" y="1168560"/>
            <a:ext cx="58676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8052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38724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80520" y="7381440"/>
            <a:ext cx="58676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58676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80520" y="7381440"/>
            <a:ext cx="58676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8052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338724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520" y="1168560"/>
            <a:ext cx="58676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364480" y="47876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348800" y="47876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380520" y="73814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2364480" y="73814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4348800" y="73814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380520" y="4787640"/>
            <a:ext cx="586764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586764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380520" y="1168560"/>
            <a:ext cx="58676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8052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38724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80520" y="7381440"/>
            <a:ext cx="58676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58676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80520" y="7381440"/>
            <a:ext cx="58676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8052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338724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2364480" y="47876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348800" y="47876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380520" y="73814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2364480" y="73814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4348800" y="73814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80520" y="4787640"/>
            <a:ext cx="586764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586764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80520" y="1168560"/>
            <a:ext cx="58676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8052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38724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38724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80520" y="7381440"/>
            <a:ext cx="58676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58676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80520" y="7381440"/>
            <a:ext cx="58676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8052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38724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364480" y="47876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348800" y="47876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80520" y="73814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364480" y="73814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348800" y="73814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380520" y="4787640"/>
            <a:ext cx="586764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586764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7381440"/>
            <a:ext cx="58676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380520" y="1168560"/>
            <a:ext cx="5867640" cy="19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8052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38724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380520" y="7381440"/>
            <a:ext cx="58676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58676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80520" y="7381440"/>
            <a:ext cx="586764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387240" y="47876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8052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3387240" y="7381440"/>
            <a:ext cx="28630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2364480" y="47876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348800" y="47876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380520" y="73814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2364480" y="73814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4348800" y="7381440"/>
            <a:ext cx="1889280" cy="236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380520" y="4787640"/>
            <a:ext cx="586764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586764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5920" y="0"/>
            <a:ext cx="1097280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15920" y="5016240"/>
            <a:ext cx="10972800" cy="3708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1" algn="ctr">
              <a:buClr>
                <a:srgbClr val="737373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2" algn="ctr">
              <a:buClr>
                <a:srgbClr val="737373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3" algn="ctr">
              <a:buClr>
                <a:srgbClr val="737373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4" algn="ctr">
              <a:buClr>
                <a:srgbClr val="737373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5" algn="ctr">
              <a:buClr>
                <a:srgbClr val="727272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6" algn="ctr">
              <a:buClr>
                <a:srgbClr val="727272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270080" y="2705040"/>
            <a:ext cx="50450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3000"/>
          </a:bodyPr>
          <a:p>
            <a:pPr marL="532800" indent="-375120">
              <a:spcBef>
                <a:spcPts val="3801"/>
              </a:spcBef>
              <a:buClr>
                <a:srgbClr val="737373"/>
              </a:buClr>
              <a:buSzPct val="76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1" marL="857160" indent="-375480">
              <a:spcBef>
                <a:spcPts val="3801"/>
              </a:spcBef>
              <a:buClr>
                <a:srgbClr val="737373"/>
              </a:buClr>
              <a:buSzPct val="76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2" marL="1181880" indent="-375480">
              <a:spcBef>
                <a:spcPts val="3801"/>
              </a:spcBef>
              <a:buClr>
                <a:srgbClr val="737373"/>
              </a:buClr>
              <a:buSzPct val="76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3" marL="1506600" indent="-375480">
              <a:spcBef>
                <a:spcPts val="3801"/>
              </a:spcBef>
              <a:buClr>
                <a:srgbClr val="737373"/>
              </a:buClr>
              <a:buSzPct val="76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4" marL="1830600" indent="-375120">
              <a:spcBef>
                <a:spcPts val="3801"/>
              </a:spcBef>
              <a:buClr>
                <a:srgbClr val="737373"/>
              </a:buClr>
              <a:buSzPct val="76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5" marL="1830600" indent="-375120">
              <a:spcBef>
                <a:spcPts val="3801"/>
              </a:spcBef>
              <a:buClr>
                <a:srgbClr val="727272"/>
              </a:buClr>
              <a:buSzPct val="76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6" marL="1830600" indent="-375120">
              <a:spcBef>
                <a:spcPts val="3801"/>
              </a:spcBef>
              <a:buClr>
                <a:srgbClr val="727272"/>
              </a:buClr>
              <a:buSzPct val="76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177480"/>
            <a:ext cx="10464840" cy="259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269720" y="2768760"/>
            <a:ext cx="10464840" cy="698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30080" indent="-514080">
              <a:spcBef>
                <a:spcPts val="3801"/>
              </a:spcBef>
              <a:buClr>
                <a:srgbClr val="737373"/>
              </a:buClr>
              <a:buSzPct val="76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1" marL="1174680" indent="-514440">
              <a:spcBef>
                <a:spcPts val="3801"/>
              </a:spcBef>
              <a:buClr>
                <a:srgbClr val="737373"/>
              </a:buClr>
              <a:buSzPct val="76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2" marL="1619280" indent="-514440">
              <a:spcBef>
                <a:spcPts val="3801"/>
              </a:spcBef>
              <a:buClr>
                <a:srgbClr val="737373"/>
              </a:buClr>
              <a:buSzPct val="76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3" marL="2063880" indent="-514440">
              <a:spcBef>
                <a:spcPts val="3801"/>
              </a:spcBef>
              <a:buClr>
                <a:srgbClr val="737373"/>
              </a:buClr>
              <a:buSzPct val="76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4" marL="2508120" indent="-514080">
              <a:spcBef>
                <a:spcPts val="3801"/>
              </a:spcBef>
              <a:buClr>
                <a:srgbClr val="737373"/>
              </a:buClr>
              <a:buSzPct val="76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5" marL="2508120" indent="-514080">
              <a:spcBef>
                <a:spcPts val="3801"/>
              </a:spcBef>
              <a:buClr>
                <a:srgbClr val="727272"/>
              </a:buClr>
              <a:buSzPct val="76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6" marL="2508120" indent="-514080">
              <a:spcBef>
                <a:spcPts val="3801"/>
              </a:spcBef>
              <a:buClr>
                <a:srgbClr val="727272"/>
              </a:buClr>
              <a:buSzPct val="76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1270080" y="2705040"/>
            <a:ext cx="50450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3000"/>
          </a:bodyPr>
          <a:p>
            <a:pPr marL="532800" indent="-375120">
              <a:spcBef>
                <a:spcPts val="3801"/>
              </a:spcBef>
              <a:buClr>
                <a:srgbClr val="737373"/>
              </a:buClr>
              <a:buSzPct val="76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1" marL="857160" indent="-375480">
              <a:spcBef>
                <a:spcPts val="3801"/>
              </a:spcBef>
              <a:buClr>
                <a:srgbClr val="737373"/>
              </a:buClr>
              <a:buSzPct val="76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2" marL="1181880" indent="-375480">
              <a:spcBef>
                <a:spcPts val="3801"/>
              </a:spcBef>
              <a:buClr>
                <a:srgbClr val="737373"/>
              </a:buClr>
              <a:buSzPct val="76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3" marL="1506600" indent="-375480">
              <a:spcBef>
                <a:spcPts val="3801"/>
              </a:spcBef>
              <a:buClr>
                <a:srgbClr val="737373"/>
              </a:buClr>
              <a:buSzPct val="76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4" marL="1830600" indent="-375120">
              <a:spcBef>
                <a:spcPts val="3801"/>
              </a:spcBef>
              <a:buClr>
                <a:srgbClr val="737373"/>
              </a:buClr>
              <a:buSzPct val="76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5" marL="1830600" indent="-375120">
              <a:spcBef>
                <a:spcPts val="3801"/>
              </a:spcBef>
              <a:buClr>
                <a:srgbClr val="727272"/>
              </a:buClr>
              <a:buSzPct val="76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6" marL="1830600" indent="-375120">
              <a:spcBef>
                <a:spcPts val="3801"/>
              </a:spcBef>
              <a:buClr>
                <a:srgbClr val="727272"/>
              </a:buClr>
              <a:buSzPct val="76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040" y="2705040"/>
            <a:ext cx="39654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0000"/>
          </a:bodyPr>
          <a:p>
            <a:pPr marL="437760" indent="-308160">
              <a:spcBef>
                <a:spcPts val="3801"/>
              </a:spcBef>
              <a:buClr>
                <a:srgbClr val="737373"/>
              </a:buClr>
              <a:buSzPct val="76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1" marL="704520" indent="-308520">
              <a:spcBef>
                <a:spcPts val="3801"/>
              </a:spcBef>
              <a:buClr>
                <a:srgbClr val="737373"/>
              </a:buClr>
              <a:buSzPct val="76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2" marL="971280" indent="-308520">
              <a:spcBef>
                <a:spcPts val="3801"/>
              </a:spcBef>
              <a:buClr>
                <a:srgbClr val="737373"/>
              </a:buClr>
              <a:buSzPct val="76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3" marL="1238040" indent="-308520">
              <a:spcBef>
                <a:spcPts val="3801"/>
              </a:spcBef>
              <a:buClr>
                <a:srgbClr val="737373"/>
              </a:buClr>
              <a:buSzPct val="76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4" marL="1504800" indent="-308160">
              <a:spcBef>
                <a:spcPts val="3801"/>
              </a:spcBef>
              <a:buClr>
                <a:srgbClr val="737373"/>
              </a:buClr>
              <a:buSzPct val="76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5" marL="1504800" indent="-308160">
              <a:spcBef>
                <a:spcPts val="3801"/>
              </a:spcBef>
              <a:buClr>
                <a:srgbClr val="727272"/>
              </a:buClr>
              <a:buSzPct val="76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  <a:p>
            <a:pPr lvl="6" marL="1504800" indent="-308160">
              <a:spcBef>
                <a:spcPts val="3801"/>
              </a:spcBef>
              <a:buClr>
                <a:srgbClr val="727272"/>
              </a:buClr>
              <a:buSzPct val="76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3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4787640"/>
            <a:ext cx="586764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1" algn="ctr">
              <a:buClr>
                <a:srgbClr val="737373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2" algn="ctr">
              <a:buClr>
                <a:srgbClr val="737373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3" algn="ctr">
              <a:buClr>
                <a:srgbClr val="737373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4" algn="ctr">
              <a:buClr>
                <a:srgbClr val="737373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5" algn="ctr">
              <a:buClr>
                <a:srgbClr val="727272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6" algn="ctr">
              <a:buClr>
                <a:srgbClr val="727272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6489360"/>
            <a:ext cx="10464840" cy="279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1" marL="396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2" marL="39600" algn="ctr">
              <a:buClr>
                <a:srgbClr val="737373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3" marL="39600" algn="ctr">
              <a:buClr>
                <a:srgbClr val="737373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4" marL="39600" algn="ctr">
              <a:buClr>
                <a:srgbClr val="737373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5" marL="39600">
              <a:spcBef>
                <a:spcPts val="1001"/>
              </a:spcBef>
              <a:buClr>
                <a:srgbClr val="727272"/>
              </a:buClr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lvl="6" marL="39600">
              <a:spcBef>
                <a:spcPts val="1001"/>
              </a:spcBef>
              <a:buClr>
                <a:srgbClr val="727272"/>
              </a:buClr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802800" indent="-499320">
              <a:spcBef>
                <a:spcPts val="2801"/>
              </a:spcBef>
              <a:buClr>
                <a:srgbClr val="737373"/>
              </a:buClr>
              <a:buSzPct val="76000"/>
              <a:buFont typeface="Marker Fel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1" marL="1180800" indent="-499320">
              <a:spcBef>
                <a:spcPts val="2801"/>
              </a:spcBef>
              <a:buClr>
                <a:srgbClr val="737373"/>
              </a:buClr>
              <a:buSzPct val="76000"/>
              <a:buFont typeface="Marker Fel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2" marL="1558440" indent="-498960">
              <a:spcBef>
                <a:spcPts val="2801"/>
              </a:spcBef>
              <a:buClr>
                <a:srgbClr val="737373"/>
              </a:buClr>
              <a:buSzPct val="76000"/>
              <a:buFont typeface="Marker Felt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3" marL="1936080" indent="-499320">
              <a:spcBef>
                <a:spcPts val="2801"/>
              </a:spcBef>
              <a:buClr>
                <a:srgbClr val="737373"/>
              </a:buClr>
              <a:buSzPct val="76000"/>
              <a:buFont typeface="Marker Felt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4" marL="2314080" indent="-499320">
              <a:spcBef>
                <a:spcPts val="2801"/>
              </a:spcBef>
              <a:buClr>
                <a:srgbClr val="737373"/>
              </a:buClr>
              <a:buSzPct val="76000"/>
              <a:buFont typeface="Marker Felt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5" marL="2314080" indent="-499320">
              <a:spcBef>
                <a:spcPts val="1151"/>
              </a:spcBef>
              <a:buClr>
                <a:srgbClr val="727272"/>
              </a:buClr>
              <a:buSzPct val="76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6" marL="2314080" indent="-499320">
              <a:spcBef>
                <a:spcPts val="1151"/>
              </a:spcBef>
              <a:buClr>
                <a:srgbClr val="727272"/>
              </a:buClr>
              <a:buSzPct val="76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269720" y="2705040"/>
            <a:ext cx="1046484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650520" indent="-475560">
              <a:spcBef>
                <a:spcPts val="2801"/>
              </a:spcBef>
              <a:buClr>
                <a:srgbClr val="737373"/>
              </a:buClr>
              <a:buSzPct val="76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1" marL="1010520" indent="-475560">
              <a:spcBef>
                <a:spcPts val="2801"/>
              </a:spcBef>
              <a:buClr>
                <a:srgbClr val="737373"/>
              </a:buClr>
              <a:buSzPct val="76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2" marL="1370520" indent="-475560">
              <a:spcBef>
                <a:spcPts val="2801"/>
              </a:spcBef>
              <a:buClr>
                <a:srgbClr val="737373"/>
              </a:buClr>
              <a:buSzPct val="76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3" marL="1730520" indent="-475560">
              <a:spcBef>
                <a:spcPts val="2801"/>
              </a:spcBef>
              <a:buClr>
                <a:srgbClr val="737373"/>
              </a:buClr>
              <a:buSzPct val="76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4" marL="2090520" indent="-475560">
              <a:spcBef>
                <a:spcPts val="2801"/>
              </a:spcBef>
              <a:buClr>
                <a:srgbClr val="737373"/>
              </a:buClr>
              <a:buSzPct val="76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5" marL="2090520" indent="-475560">
              <a:spcBef>
                <a:spcPts val="2801"/>
              </a:spcBef>
              <a:buClr>
                <a:srgbClr val="727272"/>
              </a:buClr>
              <a:buSzPct val="76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6" marL="2090520" indent="-475560">
              <a:spcBef>
                <a:spcPts val="2801"/>
              </a:spcBef>
              <a:buClr>
                <a:srgbClr val="727272"/>
              </a:buClr>
              <a:buSzPct val="76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844360"/>
            <a:ext cx="10464840" cy="4064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650520" indent="-475560">
              <a:spcBef>
                <a:spcPts val="5000"/>
              </a:spcBef>
              <a:buClr>
                <a:srgbClr val="737373"/>
              </a:buClr>
              <a:buSzPct val="76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1" marL="1010520" indent="-475560">
              <a:spcBef>
                <a:spcPts val="5000"/>
              </a:spcBef>
              <a:buClr>
                <a:srgbClr val="737373"/>
              </a:buClr>
              <a:buSzPct val="76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2" marL="1370520" indent="-475560">
              <a:spcBef>
                <a:spcPts val="5000"/>
              </a:spcBef>
              <a:buClr>
                <a:srgbClr val="737373"/>
              </a:buClr>
              <a:buSzPct val="76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3" marL="1730520" indent="-475560">
              <a:spcBef>
                <a:spcPts val="5000"/>
              </a:spcBef>
              <a:buClr>
                <a:srgbClr val="737373"/>
              </a:buClr>
              <a:buSzPct val="76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4" marL="2090520" indent="-475560">
              <a:spcBef>
                <a:spcPts val="5000"/>
              </a:spcBef>
              <a:buClr>
                <a:srgbClr val="737373"/>
              </a:buClr>
              <a:buSzPct val="76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5" marL="2090520" indent="-475560">
              <a:spcBef>
                <a:spcPts val="5000"/>
              </a:spcBef>
              <a:buClr>
                <a:srgbClr val="727272"/>
              </a:buClr>
              <a:buSzPct val="76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  <a:p>
            <a:pPr lvl="6" marL="2090520" indent="-475560">
              <a:spcBef>
                <a:spcPts val="5000"/>
              </a:spcBef>
              <a:buClr>
                <a:srgbClr val="727272"/>
              </a:buClr>
              <a:buSzPct val="76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46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6489360"/>
            <a:ext cx="10464840" cy="279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3995d6"/>
                </a:solidFill>
                <a:latin typeface="Marker Felt"/>
              </a:rPr>
              <a:t>Click to edit the title text format</a:t>
            </a: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ct"/><Relationship Id="rId5" Type="http://schemas.openxmlformats.org/officeDocument/2006/relationships/image" Target="../media/image15.pct"/><Relationship Id="rId6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6.pct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 flipV="1">
            <a:off x="1015920" y="4862520"/>
            <a:ext cx="10972800" cy="17280"/>
          </a:xfrm>
          <a:prstGeom prst="line">
            <a:avLst/>
          </a:prstGeom>
          <a:ln w="12600">
            <a:solidFill>
              <a:srgbClr val="737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727272"/>
              </a:solidFill>
              <a:latin typeface="Marker Felt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15920" y="0"/>
            <a:ext cx="1097280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3995d6"/>
                </a:solidFill>
                <a:latin typeface="Marker Felt"/>
              </a:rPr>
              <a:t>Section 12.7</a:t>
            </a: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015920" y="5016240"/>
            <a:ext cx="10972800" cy="3708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Volumes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Polar Coordinates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2424240" y="2476440"/>
            <a:ext cx="8740800" cy="3292560"/>
            <a:chOff x="2424240" y="2476440"/>
            <a:chExt cx="8740800" cy="3292560"/>
          </a:xfrm>
        </p:grpSpPr>
        <p:pic>
          <p:nvPicPr>
            <p:cNvPr id="544" name="" descr=""/>
            <p:cNvPicPr/>
            <p:nvPr/>
          </p:nvPicPr>
          <p:blipFill>
            <a:blip r:embed="rId2"/>
            <a:stretch/>
          </p:blipFill>
          <p:spPr>
            <a:xfrm>
              <a:off x="2424240" y="2477880"/>
              <a:ext cx="4597560" cy="328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" descr=""/>
            <p:cNvPicPr/>
            <p:nvPr/>
          </p:nvPicPr>
          <p:blipFill>
            <a:blip r:embed="rId3"/>
            <a:stretch/>
          </p:blipFill>
          <p:spPr>
            <a:xfrm>
              <a:off x="7005600" y="2476440"/>
              <a:ext cx="4159440" cy="329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" descr=""/>
            <p:cNvPicPr/>
            <p:nvPr/>
          </p:nvPicPr>
          <p:blipFill>
            <a:blip r:embed="rId4"/>
            <a:stretch/>
          </p:blipFill>
          <p:spPr>
            <a:xfrm rot="16200000">
              <a:off x="6880320" y="4401720"/>
              <a:ext cx="141480" cy="67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" descr=""/>
            <p:cNvPicPr/>
            <p:nvPr/>
          </p:nvPicPr>
          <p:blipFill>
            <a:blip r:embed="rId5"/>
            <a:stretch/>
          </p:blipFill>
          <p:spPr>
            <a:xfrm>
              <a:off x="6859800" y="4360680"/>
              <a:ext cx="212760" cy="219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8" name="" descr=""/>
          <p:cNvPicPr/>
          <p:nvPr/>
        </p:nvPicPr>
        <p:blipFill>
          <a:blip r:embed="rId6"/>
          <a:stretch/>
        </p:blipFill>
        <p:spPr>
          <a:xfrm>
            <a:off x="2452680" y="6006960"/>
            <a:ext cx="8683560" cy="18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Polar Coordinates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2424240" y="2476440"/>
            <a:ext cx="8740800" cy="3292560"/>
            <a:chOff x="2424240" y="2476440"/>
            <a:chExt cx="8740800" cy="3292560"/>
          </a:xfrm>
        </p:grpSpPr>
        <p:pic>
          <p:nvPicPr>
            <p:cNvPr id="551" name="" descr=""/>
            <p:cNvPicPr/>
            <p:nvPr/>
          </p:nvPicPr>
          <p:blipFill>
            <a:blip r:embed="rId2"/>
            <a:stretch/>
          </p:blipFill>
          <p:spPr>
            <a:xfrm>
              <a:off x="2424240" y="2477880"/>
              <a:ext cx="4597560" cy="328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" descr=""/>
            <p:cNvPicPr/>
            <p:nvPr/>
          </p:nvPicPr>
          <p:blipFill>
            <a:blip r:embed="rId3"/>
            <a:stretch/>
          </p:blipFill>
          <p:spPr>
            <a:xfrm>
              <a:off x="7005600" y="2476440"/>
              <a:ext cx="4159440" cy="329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" descr=""/>
            <p:cNvPicPr/>
            <p:nvPr/>
          </p:nvPicPr>
          <p:blipFill>
            <a:blip r:embed="rId4"/>
            <a:stretch/>
          </p:blipFill>
          <p:spPr>
            <a:xfrm rot="16200000">
              <a:off x="6880320" y="4401720"/>
              <a:ext cx="141480" cy="67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" descr=""/>
            <p:cNvPicPr/>
            <p:nvPr/>
          </p:nvPicPr>
          <p:blipFill>
            <a:blip r:embed="rId5"/>
            <a:stretch/>
          </p:blipFill>
          <p:spPr>
            <a:xfrm>
              <a:off x="6859800" y="4360680"/>
              <a:ext cx="212760" cy="219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5" name="" descr=""/>
          <p:cNvPicPr/>
          <p:nvPr/>
        </p:nvPicPr>
        <p:blipFill>
          <a:blip r:embed="rId6"/>
          <a:stretch/>
        </p:blipFill>
        <p:spPr>
          <a:xfrm>
            <a:off x="3278160" y="6464160"/>
            <a:ext cx="7035840" cy="214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"/>
          <p:cNvGrpSpPr/>
          <p:nvPr/>
        </p:nvGrpSpPr>
        <p:grpSpPr>
          <a:xfrm>
            <a:off x="3086280" y="1523880"/>
            <a:ext cx="5956200" cy="4508640"/>
            <a:chOff x="3086280" y="1523880"/>
            <a:chExt cx="5956200" cy="4508640"/>
          </a:xfrm>
        </p:grpSpPr>
        <p:pic>
          <p:nvPicPr>
            <p:cNvPr id="557" name="" descr=""/>
            <p:cNvPicPr/>
            <p:nvPr/>
          </p:nvPicPr>
          <p:blipFill>
            <a:blip r:embed="rId2"/>
            <a:srcRect l="1251" t="0" r="1240" b="0"/>
            <a:stretch/>
          </p:blipFill>
          <p:spPr>
            <a:xfrm>
              <a:off x="3086280" y="2054160"/>
              <a:ext cx="5956200" cy="38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" descr=""/>
            <p:cNvPicPr/>
            <p:nvPr/>
          </p:nvPicPr>
          <p:blipFill>
            <a:blip r:embed="rId3"/>
            <a:stretch/>
          </p:blipFill>
          <p:spPr>
            <a:xfrm>
              <a:off x="3098880" y="1523880"/>
              <a:ext cx="5931000" cy="45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359000" y="-360"/>
            <a:ext cx="9423360" cy="1714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3995d6"/>
                </a:solidFill>
                <a:latin typeface="Marker Felt"/>
              </a:rPr>
              <a:t>Triple Integrals</a:t>
            </a: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4"/>
          <a:stretch/>
        </p:blipFill>
        <p:spPr>
          <a:xfrm>
            <a:off x="789120" y="6512040"/>
            <a:ext cx="11175840" cy="264132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Spherical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2160720" y="2570040"/>
            <a:ext cx="8683560" cy="49068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3"/>
          <a:stretch/>
        </p:blipFill>
        <p:spPr>
          <a:xfrm>
            <a:off x="839880" y="3562200"/>
            <a:ext cx="11328480" cy="41022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4"/>
          <a:stretch/>
        </p:blipFill>
        <p:spPr>
          <a:xfrm>
            <a:off x="4368960" y="8183520"/>
            <a:ext cx="425448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Spherical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2160720" y="2570040"/>
            <a:ext cx="8683560" cy="49068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4051440" y="4056120"/>
            <a:ext cx="4889520" cy="110484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4"/>
          <a:stretch/>
        </p:blipFill>
        <p:spPr>
          <a:xfrm>
            <a:off x="1182600" y="5943600"/>
            <a:ext cx="10642680" cy="104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"/>
          <p:cNvGrpSpPr/>
          <p:nvPr/>
        </p:nvGrpSpPr>
        <p:grpSpPr>
          <a:xfrm>
            <a:off x="5994360" y="2362320"/>
            <a:ext cx="4863960" cy="5499000"/>
            <a:chOff x="5994360" y="2362320"/>
            <a:chExt cx="4863960" cy="5499000"/>
          </a:xfrm>
        </p:grpSpPr>
        <p:pic>
          <p:nvPicPr>
            <p:cNvPr id="570" name="" descr=""/>
            <p:cNvPicPr/>
            <p:nvPr/>
          </p:nvPicPr>
          <p:blipFill>
            <a:blip r:embed="rId2"/>
            <a:srcRect l="4252" t="246" r="0" b="501"/>
            <a:stretch/>
          </p:blipFill>
          <p:spPr>
            <a:xfrm>
              <a:off x="5994360" y="2730600"/>
              <a:ext cx="4862520" cy="504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" descr=""/>
            <p:cNvPicPr/>
            <p:nvPr/>
          </p:nvPicPr>
          <p:blipFill>
            <a:blip r:embed="rId3"/>
            <a:stretch/>
          </p:blipFill>
          <p:spPr>
            <a:xfrm>
              <a:off x="6006960" y="2362320"/>
              <a:ext cx="4851360" cy="549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994040" y="0"/>
            <a:ext cx="9004320" cy="207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3995d6"/>
                </a:solidFill>
                <a:latin typeface="Marker Felt"/>
              </a:rPr>
              <a:t>Transformations</a:t>
            </a: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286000" y="3924000"/>
            <a:ext cx="2705040" cy="5740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Examples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Problems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"/>
          <p:cNvGrpSpPr/>
          <p:nvPr/>
        </p:nvGrpSpPr>
        <p:grpSpPr>
          <a:xfrm>
            <a:off x="5708520" y="1650960"/>
            <a:ext cx="6845400" cy="4432320"/>
            <a:chOff x="5708520" y="1650960"/>
            <a:chExt cx="6845400" cy="4432320"/>
          </a:xfrm>
        </p:grpSpPr>
        <p:pic>
          <p:nvPicPr>
            <p:cNvPr id="493" name="" descr=""/>
            <p:cNvPicPr/>
            <p:nvPr/>
          </p:nvPicPr>
          <p:blipFill>
            <a:blip r:embed="rId2"/>
            <a:srcRect l="57883" t="0" r="7127" b="16288"/>
            <a:stretch/>
          </p:blipFill>
          <p:spPr>
            <a:xfrm>
              <a:off x="5708520" y="2043000"/>
              <a:ext cx="6845400" cy="395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3"/>
            <a:stretch/>
          </p:blipFill>
          <p:spPr>
            <a:xfrm>
              <a:off x="5721120" y="1650960"/>
              <a:ext cx="6819840" cy="443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80520" y="469440"/>
            <a:ext cx="5867640" cy="3848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3995d6"/>
                </a:solidFill>
                <a:latin typeface="Marker Felt"/>
              </a:rPr>
              <a:t>Volumes</a:t>
            </a: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80520" y="4787640"/>
            <a:ext cx="586764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Handout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"/>
          <p:cNvGrpSpPr/>
          <p:nvPr/>
        </p:nvGrpSpPr>
        <p:grpSpPr>
          <a:xfrm>
            <a:off x="6248520" y="990720"/>
            <a:ext cx="6148440" cy="6184800"/>
            <a:chOff x="6248520" y="990720"/>
            <a:chExt cx="6148440" cy="6184800"/>
          </a:xfrm>
        </p:grpSpPr>
        <p:pic>
          <p:nvPicPr>
            <p:cNvPr id="498" name="" descr=""/>
            <p:cNvPicPr/>
            <p:nvPr/>
          </p:nvPicPr>
          <p:blipFill>
            <a:blip r:embed="rId2"/>
            <a:srcRect l="304" t="0" r="0" b="0"/>
            <a:stretch/>
          </p:blipFill>
          <p:spPr>
            <a:xfrm>
              <a:off x="6248520" y="1359000"/>
              <a:ext cx="6148440" cy="573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" descr=""/>
            <p:cNvPicPr/>
            <p:nvPr/>
          </p:nvPicPr>
          <p:blipFill>
            <a:blip r:embed="rId3"/>
            <a:stretch/>
          </p:blipFill>
          <p:spPr>
            <a:xfrm>
              <a:off x="6261120" y="990720"/>
              <a:ext cx="6134040" cy="618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5867640" cy="45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3995d6"/>
                </a:solidFill>
                <a:latin typeface="Marker Felt"/>
              </a:rPr>
              <a:t>Cylindrical</a:t>
            </a:r>
            <a:br>
              <a:rPr sz="9500"/>
            </a:br>
            <a:r>
              <a:rPr b="0" lang="en-US" sz="9500" spc="-1" strike="noStrike">
                <a:solidFill>
                  <a:srgbClr val="3995d6"/>
                </a:solidFill>
                <a:latin typeface="Marker Felt"/>
              </a:rPr>
              <a:t>Volumes</a:t>
            </a: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80520" y="5067360"/>
            <a:ext cx="5867640" cy="373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dV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"/>
          <p:cNvGrpSpPr/>
          <p:nvPr/>
        </p:nvGrpSpPr>
        <p:grpSpPr>
          <a:xfrm>
            <a:off x="5702400" y="1030320"/>
            <a:ext cx="6896160" cy="6184800"/>
            <a:chOff x="5702400" y="1030320"/>
            <a:chExt cx="6896160" cy="6184800"/>
          </a:xfrm>
        </p:grpSpPr>
        <p:pic>
          <p:nvPicPr>
            <p:cNvPr id="503" name="" descr=""/>
            <p:cNvPicPr/>
            <p:nvPr/>
          </p:nvPicPr>
          <p:blipFill>
            <a:blip r:embed="rId2"/>
            <a:srcRect l="1983" t="0" r="0" b="0"/>
            <a:stretch/>
          </p:blipFill>
          <p:spPr>
            <a:xfrm>
              <a:off x="5702400" y="1398600"/>
              <a:ext cx="6894360" cy="572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4" name="" descr=""/>
            <p:cNvPicPr/>
            <p:nvPr/>
          </p:nvPicPr>
          <p:blipFill>
            <a:blip r:embed="rId3"/>
            <a:stretch/>
          </p:blipFill>
          <p:spPr>
            <a:xfrm>
              <a:off x="5715000" y="1030320"/>
              <a:ext cx="6883560" cy="618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9000" y="-360"/>
            <a:ext cx="5257800" cy="46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3995d6"/>
                </a:solidFill>
                <a:latin typeface="Marker Felt"/>
              </a:rPr>
              <a:t>Spherical</a:t>
            </a:r>
            <a:br>
              <a:rPr sz="9500"/>
            </a:br>
            <a:r>
              <a:rPr b="0" lang="en-US" sz="9500" spc="-1" strike="noStrike">
                <a:solidFill>
                  <a:srgbClr val="3995d6"/>
                </a:solidFill>
                <a:latin typeface="Marker Felt"/>
              </a:rPr>
              <a:t>Volumes</a:t>
            </a: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346040" y="4660920"/>
            <a:ext cx="3111840" cy="373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37373"/>
                </a:solidFill>
                <a:latin typeface="Marker Felt"/>
              </a:rPr>
              <a:t>dV</a:t>
            </a:r>
            <a:endParaRPr b="0" lang="en-US" sz="4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"/>
          <p:cNvGrpSpPr/>
          <p:nvPr/>
        </p:nvGrpSpPr>
        <p:grpSpPr>
          <a:xfrm>
            <a:off x="965160" y="965160"/>
            <a:ext cx="11074320" cy="5118120"/>
            <a:chOff x="965160" y="965160"/>
            <a:chExt cx="11074320" cy="5118120"/>
          </a:xfrm>
        </p:grpSpPr>
        <p:pic>
          <p:nvPicPr>
            <p:cNvPr id="508" name="" descr=""/>
            <p:cNvPicPr/>
            <p:nvPr/>
          </p:nvPicPr>
          <p:blipFill>
            <a:blip r:embed="rId2"/>
            <a:srcRect l="341" t="0" r="284" b="0"/>
            <a:stretch/>
          </p:blipFill>
          <p:spPr>
            <a:xfrm>
              <a:off x="965160" y="1295280"/>
              <a:ext cx="11074320" cy="469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" descr=""/>
            <p:cNvPicPr/>
            <p:nvPr/>
          </p:nvPicPr>
          <p:blipFill>
            <a:blip r:embed="rId3"/>
            <a:stretch/>
          </p:blipFill>
          <p:spPr>
            <a:xfrm>
              <a:off x="977760" y="965160"/>
              <a:ext cx="11049120" cy="511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6489360"/>
            <a:ext cx="10464840" cy="279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3995d6"/>
                </a:solidFill>
                <a:latin typeface="Marker Felt"/>
              </a:rPr>
              <a:t>Transformations</a:t>
            </a: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190440" y="965160"/>
            <a:ext cx="12661920" cy="5118120"/>
            <a:chOff x="190440" y="965160"/>
            <a:chExt cx="12661920" cy="5118120"/>
          </a:xfrm>
        </p:grpSpPr>
        <p:pic>
          <p:nvPicPr>
            <p:cNvPr id="512" name="" descr=""/>
            <p:cNvPicPr/>
            <p:nvPr/>
          </p:nvPicPr>
          <p:blipFill>
            <a:blip r:embed="rId2"/>
            <a:srcRect l="496" t="0" r="101" b="0"/>
            <a:stretch/>
          </p:blipFill>
          <p:spPr>
            <a:xfrm>
              <a:off x="190440" y="1295280"/>
              <a:ext cx="12661920" cy="469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" descr=""/>
            <p:cNvPicPr/>
            <p:nvPr/>
          </p:nvPicPr>
          <p:blipFill>
            <a:blip r:embed="rId3"/>
            <a:stretch/>
          </p:blipFill>
          <p:spPr>
            <a:xfrm>
              <a:off x="203040" y="965160"/>
              <a:ext cx="12636720" cy="511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94920" y="6235200"/>
            <a:ext cx="10464840" cy="1295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95d6"/>
                </a:solidFill>
                <a:latin typeface="Marker Felt"/>
              </a:rPr>
              <a:t>r</a:t>
            </a:r>
            <a:r>
              <a:rPr b="0" lang="en-US" sz="3600" spc="-1" strike="noStrike">
                <a:solidFill>
                  <a:srgbClr val="3995d6"/>
                </a:solidFill>
                <a:latin typeface="Marker Felt"/>
              </a:rPr>
              <a:t>(u,v) = &lt; x(u,v), x(u,v) &gt;</a:t>
            </a:r>
            <a:br>
              <a:rPr sz="3600"/>
            </a:br>
            <a:r>
              <a:rPr b="0" lang="en-US" sz="3600" spc="-1" strike="noStrike">
                <a:solidFill>
                  <a:srgbClr val="3995d6"/>
                </a:solidFill>
                <a:latin typeface="Marker Felt"/>
              </a:rPr>
              <a:t>is the position vector of the image of the point (u,v)</a:t>
            </a:r>
            <a:endParaRPr b="0" lang="en-US" sz="3600" spc="-1" strike="noStrike">
              <a:solidFill>
                <a:srgbClr val="3995d6"/>
              </a:solidFill>
              <a:latin typeface="Marker Fel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500" spc="-1" strike="noStrike">
              <a:solidFill>
                <a:srgbClr val="3995d6"/>
              </a:solidFill>
              <a:latin typeface="Marker Felt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9540720" y="2301120"/>
            <a:ext cx="2671920" cy="1930320"/>
            <a:chOff x="9540720" y="2301120"/>
            <a:chExt cx="2671920" cy="1930320"/>
          </a:xfrm>
        </p:grpSpPr>
        <p:sp>
          <p:nvSpPr>
            <p:cNvPr id="516" name=""/>
            <p:cNvSpPr/>
            <p:nvPr/>
          </p:nvSpPr>
          <p:spPr>
            <a:xfrm flipH="1" flipV="1">
              <a:off x="9552960" y="3436200"/>
              <a:ext cx="1908360" cy="795240"/>
            </a:xfrm>
            <a:prstGeom prst="line">
              <a:avLst/>
            </a:prstGeom>
            <a:ln w="38160">
              <a:solidFill>
                <a:srgbClr val="ff271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727272"/>
                </a:solidFill>
                <a:latin typeface="Marker Felt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9540720" y="2489040"/>
              <a:ext cx="836640" cy="921960"/>
            </a:xfrm>
            <a:prstGeom prst="line">
              <a:avLst/>
            </a:prstGeom>
            <a:ln w="38160">
              <a:solidFill>
                <a:srgbClr val="ff271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727272"/>
                </a:solidFill>
                <a:latin typeface="Marker Felt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11440800" y="3330360"/>
              <a:ext cx="771840" cy="883800"/>
            </a:xfrm>
            <a:prstGeom prst="line">
              <a:avLst/>
            </a:prstGeom>
            <a:ln w="25560">
              <a:solidFill>
                <a:srgbClr val="ff271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727272"/>
                </a:solidFill>
                <a:latin typeface="Marker Felt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 flipV="1">
              <a:off x="10386360" y="2565000"/>
              <a:ext cx="1816200" cy="777240"/>
            </a:xfrm>
            <a:prstGeom prst="line">
              <a:avLst/>
            </a:prstGeom>
            <a:ln w="25560">
              <a:solidFill>
                <a:srgbClr val="ff2712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727272"/>
                </a:solidFill>
                <a:latin typeface="Marker Felt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0994400" y="3697920"/>
              <a:ext cx="13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Marker Felt"/>
                  <a:ea typeface="Marker Felt"/>
                </a:rPr>
                <a:t>a</a:t>
              </a:r>
              <a:endParaRPr b="0" lang="en-US" sz="1800" spc="-1" strike="noStrike">
                <a:solidFill>
                  <a:srgbClr val="727272"/>
                </a:solidFill>
                <a:latin typeface="Marker Felt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0039680" y="2301120"/>
              <a:ext cx="145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Marker Felt"/>
                  <a:ea typeface="Marker Felt"/>
                </a:rPr>
                <a:t>b</a:t>
              </a:r>
              <a:endParaRPr b="0" lang="en-US" sz="1800" spc="-1" strike="noStrike">
                <a:solidFill>
                  <a:srgbClr val="727272"/>
                </a:solidFill>
                <a:latin typeface="Marker Felt"/>
              </a:endParaRPr>
            </a:p>
          </p:txBody>
        </p:sp>
      </p:grpSp>
      <p:sp>
        <p:nvSpPr>
          <p:cNvPr id="522" name=""/>
          <p:cNvSpPr/>
          <p:nvPr/>
        </p:nvSpPr>
        <p:spPr>
          <a:xfrm flipH="1" flipV="1">
            <a:off x="3317760" y="3521160"/>
            <a:ext cx="6880320" cy="404640"/>
          </a:xfrm>
          <a:prstGeom prst="line">
            <a:avLst/>
          </a:prstGeom>
          <a:ln w="25560">
            <a:solidFill>
              <a:srgbClr val="63a0c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727272"/>
              </a:solidFill>
              <a:latin typeface="Marker Felt"/>
            </a:endParaRPr>
          </a:p>
        </p:txBody>
      </p:sp>
      <p:sp>
        <p:nvSpPr>
          <p:cNvPr id="523" name=""/>
          <p:cNvSpPr/>
          <p:nvPr/>
        </p:nvSpPr>
        <p:spPr>
          <a:xfrm flipH="1" flipV="1">
            <a:off x="2128320" y="2662200"/>
            <a:ext cx="7574040" cy="331920"/>
          </a:xfrm>
          <a:prstGeom prst="line">
            <a:avLst/>
          </a:prstGeom>
          <a:ln w="25560">
            <a:solidFill>
              <a:srgbClr val="63a0c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727272"/>
              </a:solidFill>
              <a:latin typeface="Marker Felt"/>
            </a:endParaRPr>
          </a:p>
        </p:txBody>
      </p:sp>
      <p:sp>
        <p:nvSpPr>
          <p:cNvPr id="524" name=""/>
          <p:cNvSpPr/>
          <p:nvPr/>
        </p:nvSpPr>
        <p:spPr>
          <a:xfrm>
            <a:off x="5280120" y="4102200"/>
            <a:ext cx="2450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7272"/>
                </a:solidFill>
                <a:latin typeface="Marker Felt"/>
                <a:ea typeface="Marker Felt"/>
              </a:rPr>
              <a:t>Lower boundary of S maps to </a:t>
            </a:r>
            <a:r>
              <a:rPr b="1" lang="en-US" sz="2400" spc="-1" strike="noStrike">
                <a:solidFill>
                  <a:srgbClr val="727272"/>
                </a:solidFill>
                <a:latin typeface="Marker Felt"/>
                <a:ea typeface="Marker Felt"/>
              </a:rPr>
              <a:t>r</a:t>
            </a:r>
            <a:r>
              <a:rPr b="0" lang="en-US" sz="2400" spc="-1" strike="noStrike">
                <a:solidFill>
                  <a:srgbClr val="727272"/>
                </a:solidFill>
                <a:latin typeface="Marker Felt"/>
                <a:ea typeface="Marker Felt"/>
              </a:rPr>
              <a:t>(u,v</a:t>
            </a:r>
            <a:r>
              <a:rPr b="0" lang="en-US" sz="2400" spc="-1" strike="noStrike" baseline="-6000">
                <a:solidFill>
                  <a:srgbClr val="727272"/>
                </a:solidFill>
                <a:latin typeface="Marker Felt"/>
                <a:ea typeface="Marker Felt"/>
              </a:rPr>
              <a:t>0</a:t>
            </a:r>
            <a:r>
              <a:rPr b="0" lang="en-US" sz="2400" spc="-1" strike="noStrike">
                <a:solidFill>
                  <a:srgbClr val="727272"/>
                </a:solidFill>
                <a:latin typeface="Marker Felt"/>
                <a:ea typeface="Marker Felt"/>
              </a:rPr>
              <a:t>)</a:t>
            </a:r>
            <a:endParaRPr b="0" lang="en-US" sz="2400" spc="-1" strike="noStrike">
              <a:solidFill>
                <a:srgbClr val="727272"/>
              </a:solidFill>
              <a:latin typeface="Marker Felt"/>
            </a:endParaRPr>
          </a:p>
        </p:txBody>
      </p:sp>
      <p:sp>
        <p:nvSpPr>
          <p:cNvPr id="525" name=""/>
          <p:cNvSpPr/>
          <p:nvPr/>
        </p:nvSpPr>
        <p:spPr>
          <a:xfrm>
            <a:off x="5533920" y="1943280"/>
            <a:ext cx="2451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7272"/>
                </a:solidFill>
                <a:latin typeface="Marker Felt"/>
                <a:ea typeface="Marker Felt"/>
              </a:rPr>
              <a:t>Left boundary of S maps to </a:t>
            </a:r>
            <a:r>
              <a:rPr b="1" lang="en-US" sz="2400" spc="-1" strike="noStrike">
                <a:solidFill>
                  <a:srgbClr val="727272"/>
                </a:solidFill>
                <a:latin typeface="Marker Felt"/>
                <a:ea typeface="Marker Felt"/>
              </a:rPr>
              <a:t>r</a:t>
            </a:r>
            <a:r>
              <a:rPr b="0" lang="en-US" sz="2400" spc="-1" strike="noStrike">
                <a:solidFill>
                  <a:srgbClr val="727272"/>
                </a:solidFill>
                <a:latin typeface="Marker Felt"/>
                <a:ea typeface="Marker Felt"/>
              </a:rPr>
              <a:t>(u</a:t>
            </a:r>
            <a:r>
              <a:rPr b="0" lang="en-US" sz="2400" spc="-1" strike="noStrike" baseline="-6000">
                <a:solidFill>
                  <a:srgbClr val="727272"/>
                </a:solidFill>
                <a:latin typeface="Marker Felt"/>
                <a:ea typeface="Marker Felt"/>
              </a:rPr>
              <a:t>0</a:t>
            </a:r>
            <a:r>
              <a:rPr b="0" lang="en-US" sz="2400" spc="-1" strike="noStrike">
                <a:solidFill>
                  <a:srgbClr val="727272"/>
                </a:solidFill>
                <a:latin typeface="Marker Felt"/>
                <a:ea typeface="Marker Felt"/>
              </a:rPr>
              <a:t>,v)</a:t>
            </a:r>
            <a:endParaRPr b="0" lang="en-US" sz="2400" spc="-1" strike="noStrike">
              <a:solidFill>
                <a:srgbClr val="727272"/>
              </a:solidFill>
              <a:latin typeface="Marker Felt"/>
            </a:endParaRPr>
          </a:p>
        </p:txBody>
      </p:sp>
      <p:sp>
        <p:nvSpPr>
          <p:cNvPr id="526" name=""/>
          <p:cNvSpPr/>
          <p:nvPr/>
        </p:nvSpPr>
        <p:spPr>
          <a:xfrm>
            <a:off x="4759200" y="7709040"/>
            <a:ext cx="421668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7272"/>
                </a:solidFill>
                <a:latin typeface="Marker Felt"/>
                <a:ea typeface="Marker Felt"/>
              </a:rPr>
              <a:t>The image of S under T is not a parallelogram - but can be approximated by a parallelogram spanned by the vectors </a:t>
            </a:r>
            <a:r>
              <a:rPr b="1" lang="en-US" sz="2400" spc="-1" strike="noStrike">
                <a:solidFill>
                  <a:srgbClr val="727272"/>
                </a:solidFill>
                <a:latin typeface="Marker Felt"/>
                <a:ea typeface="Marker Felt"/>
              </a:rPr>
              <a:t>a</a:t>
            </a:r>
            <a:r>
              <a:rPr b="0" lang="en-US" sz="2400" spc="-1" strike="noStrike">
                <a:solidFill>
                  <a:srgbClr val="727272"/>
                </a:solidFill>
                <a:latin typeface="Marker Felt"/>
                <a:ea typeface="Marker Felt"/>
              </a:rPr>
              <a:t> and </a:t>
            </a:r>
            <a:r>
              <a:rPr b="1" lang="en-US" sz="2400" spc="-1" strike="noStrike">
                <a:solidFill>
                  <a:srgbClr val="727272"/>
                </a:solidFill>
                <a:latin typeface="Marker Felt"/>
                <a:ea typeface="Marker Felt"/>
              </a:rPr>
              <a:t>b</a:t>
            </a:r>
            <a:endParaRPr b="0" lang="en-US" sz="2400" spc="-1" strike="noStrike">
              <a:solidFill>
                <a:srgbClr val="727272"/>
              </a:solidFill>
              <a:latin typeface="Marker Fel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"/>
          <p:cNvGrpSpPr/>
          <p:nvPr/>
        </p:nvGrpSpPr>
        <p:grpSpPr>
          <a:xfrm>
            <a:off x="5715000" y="304920"/>
            <a:ext cx="6807240" cy="5092560"/>
            <a:chOff x="5715000" y="304920"/>
            <a:chExt cx="6807240" cy="5092560"/>
          </a:xfrm>
        </p:grpSpPr>
        <p:pic>
          <p:nvPicPr>
            <p:cNvPr id="528" name="" descr=""/>
            <p:cNvPicPr/>
            <p:nvPr/>
          </p:nvPicPr>
          <p:blipFill>
            <a:blip r:embed="rId2"/>
            <a:srcRect l="0" t="0" r="187" b="0"/>
            <a:stretch/>
          </p:blipFill>
          <p:spPr>
            <a:xfrm>
              <a:off x="5715000" y="687600"/>
              <a:ext cx="6807240" cy="45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" descr=""/>
            <p:cNvPicPr/>
            <p:nvPr/>
          </p:nvPicPr>
          <p:blipFill>
            <a:blip r:embed="rId3"/>
            <a:stretch/>
          </p:blipFill>
          <p:spPr>
            <a:xfrm>
              <a:off x="5715000" y="304920"/>
              <a:ext cx="6794640" cy="509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0" name=""/>
          <p:cNvSpPr/>
          <p:nvPr/>
        </p:nvSpPr>
        <p:spPr>
          <a:xfrm>
            <a:off x="657360" y="2184480"/>
            <a:ext cx="421632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7272"/>
                </a:solidFill>
                <a:latin typeface="Marker Felt"/>
                <a:ea typeface="Marker Felt"/>
              </a:rPr>
              <a:t>The image of S under T is not a parallelogram - but can be approximated by a parallelogram spanned by the vectors </a:t>
            </a:r>
            <a:r>
              <a:rPr b="1" lang="en-US" sz="2400" spc="-1" strike="noStrike">
                <a:solidFill>
                  <a:srgbClr val="727272"/>
                </a:solidFill>
                <a:latin typeface="Marker Felt"/>
                <a:ea typeface="Marker Felt"/>
              </a:rPr>
              <a:t>a</a:t>
            </a:r>
            <a:r>
              <a:rPr b="0" lang="en-US" sz="2400" spc="-1" strike="noStrike">
                <a:solidFill>
                  <a:srgbClr val="727272"/>
                </a:solidFill>
                <a:latin typeface="Marker Felt"/>
                <a:ea typeface="Marker Felt"/>
              </a:rPr>
              <a:t> and </a:t>
            </a:r>
            <a:r>
              <a:rPr b="1" lang="en-US" sz="2400" spc="-1" strike="noStrike">
                <a:solidFill>
                  <a:srgbClr val="727272"/>
                </a:solidFill>
                <a:latin typeface="Marker Felt"/>
                <a:ea typeface="Marker Felt"/>
              </a:rPr>
              <a:t>b</a:t>
            </a:r>
            <a:endParaRPr b="0" lang="en-US" sz="2400" spc="-1" strike="noStrike">
              <a:solidFill>
                <a:srgbClr val="727272"/>
              </a:solidFill>
              <a:latin typeface="Marker Felt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4"/>
          <a:stretch/>
        </p:blipFill>
        <p:spPr>
          <a:xfrm>
            <a:off x="546120" y="5029200"/>
            <a:ext cx="6985080" cy="342900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5"/>
          <a:stretch/>
        </p:blipFill>
        <p:spPr>
          <a:xfrm>
            <a:off x="4915080" y="7375680"/>
            <a:ext cx="654048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"/>
          <p:cNvGrpSpPr/>
          <p:nvPr/>
        </p:nvGrpSpPr>
        <p:grpSpPr>
          <a:xfrm>
            <a:off x="5715000" y="304920"/>
            <a:ext cx="6807240" cy="5092560"/>
            <a:chOff x="5715000" y="304920"/>
            <a:chExt cx="6807240" cy="5092560"/>
          </a:xfrm>
        </p:grpSpPr>
        <p:pic>
          <p:nvPicPr>
            <p:cNvPr id="534" name="" descr=""/>
            <p:cNvPicPr/>
            <p:nvPr/>
          </p:nvPicPr>
          <p:blipFill>
            <a:blip r:embed="rId2"/>
            <a:srcRect l="0" t="0" r="187" b="0"/>
            <a:stretch/>
          </p:blipFill>
          <p:spPr>
            <a:xfrm>
              <a:off x="5715000" y="687600"/>
              <a:ext cx="6807240" cy="45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" descr=""/>
            <p:cNvPicPr/>
            <p:nvPr/>
          </p:nvPicPr>
          <p:blipFill>
            <a:blip r:embed="rId3"/>
            <a:stretch/>
          </p:blipFill>
          <p:spPr>
            <a:xfrm>
              <a:off x="5715000" y="304920"/>
              <a:ext cx="6794640" cy="509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6" name=""/>
          <p:cNvSpPr/>
          <p:nvPr/>
        </p:nvSpPr>
        <p:spPr>
          <a:xfrm>
            <a:off x="2320920" y="863640"/>
            <a:ext cx="1663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27272"/>
                </a:solidFill>
                <a:latin typeface="Marker Felt"/>
                <a:ea typeface="Marker Felt"/>
              </a:rPr>
              <a:t>Area</a:t>
            </a:r>
            <a:endParaRPr b="0" lang="en-US" sz="3600" spc="-1" strike="noStrike">
              <a:solidFill>
                <a:srgbClr val="727272"/>
              </a:solidFill>
              <a:latin typeface="Marker Felt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4"/>
          <a:stretch/>
        </p:blipFill>
        <p:spPr>
          <a:xfrm>
            <a:off x="503280" y="2133720"/>
            <a:ext cx="5249880" cy="547344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5"/>
          <a:stretch/>
        </p:blipFill>
        <p:spPr>
          <a:xfrm>
            <a:off x="7658280" y="6006960"/>
            <a:ext cx="3655800" cy="12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995d6"/>
                </a:solidFill>
                <a:latin typeface="Marker Felt"/>
              </a:rPr>
              <a:t>Jacobian</a:t>
            </a:r>
            <a:endParaRPr b="0" lang="en-US" sz="8400" spc="-1" strike="noStrike">
              <a:solidFill>
                <a:srgbClr val="3995d6"/>
              </a:solidFill>
              <a:latin typeface="Marker Felt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852480" y="2197080"/>
            <a:ext cx="10960200" cy="322596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541" name="" descr=""/>
          <p:cNvPicPr/>
          <p:nvPr/>
        </p:nvPicPr>
        <p:blipFill>
          <a:blip r:embed="rId3"/>
          <a:stretch/>
        </p:blipFill>
        <p:spPr>
          <a:xfrm>
            <a:off x="560520" y="5613480"/>
            <a:ext cx="11872800" cy="396216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